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7D3-1A74-43BE-861F-845D2FF4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323-2609-4753-A30D-04D20DF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DDC-1606-451C-B4CC-CCC1EBB5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7D6-12C2-4050-8C2B-F14E9A20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5EC1-047B-44B0-AEBA-BB075AD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A2AF-BBD9-4150-8D65-65A598E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118-C505-442F-BF91-4E8FA467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492-72F3-4975-B744-AE7AA4EC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A9E-05CE-4ADE-83A8-F230AE4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A53A-C62A-41F1-99D6-AF3710C1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C12-EC57-4C68-B39C-FC2B437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949-29E2-49EC-A0B4-99B56CE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9A7-97B5-430B-A5FA-163EDCC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8ECE-1A1B-4953-84EA-B55632D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D803-2B5C-4389-81B3-64FD5B14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A0D-BC90-4DFD-AF4E-A1F0453A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7A6B-E9B1-4624-8E83-10006CFA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2B1-9DE4-4689-B927-B975196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01C-560F-4553-8153-44D20D25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33F-E5E9-4575-9A08-42A71980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ED9-24A9-4FAF-A2D9-D186AFC1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AB3-0A70-4EE0-B706-FD5CC92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7CE-8BA5-4BDB-AEB6-256245B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94F-8A9D-473D-B11C-CAE1A6D7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rcRect l="0" t="46490" r="51478" b="36161"/>
          <a:stretch/>
        </p:blipFill>
        <p:spPr>
          <a:xfrm>
            <a:off x="-36360" y="-96840"/>
            <a:ext cx="9242280" cy="18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4BE-3802-4BA2-A8DE-7751736EE1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763-AB34-4924-BC39-8488DBEBF50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70648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SmartPhantom</a:t>
            </a:r>
            <a:br>
              <a:rPr sz="4400"/>
            </a:b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1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am Cooper</a:t>
            </a:r>
            <a:br>
              <a:rPr sz="2400"/>
            </a:b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liam.cooper@stfc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190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ounting Pl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2863800" cy="2344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5076720" y="2938320"/>
            <a:ext cx="28814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826920" y="2852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luminium Part Delivery  due –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Augu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On track. End cap drawings reissued to include rotating mechanism fixtu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xture/ Fittings Delivery due – 2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Lobe Manufacture due – 2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 and inspect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2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537480" y="2411280"/>
            <a:ext cx="77918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nalise design of rotating mechanism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Bearings/ fixtures delivered to 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rotating mechan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carbon fibre parts at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Potting mould design and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Lucida Grande"/>
                <a:ea typeface="ヒラギノ角ゴ Pro W3"/>
              </a:rPr>
              <a:t>Still requir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6:55Z</dcterms:created>
  <dc:creator>kw77</dc:creator>
  <dc:description/>
  <dc:language>en-US</dc:language>
  <cp:lastModifiedBy>Cooper, Liam (STFC,RAL,TECH)</cp:lastModifiedBy>
  <dcterms:modified xsi:type="dcterms:W3CDTF">2019-08-06T06:53:11Z</dcterms:modified>
  <cp:revision>248</cp:revision>
  <dc:subject/>
  <dc:title>Template: STFC UKRI Powerpoint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F731947B08D5984288BC8B16A979FF5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Summers, Karen (STFC,RAL,OBR)</vt:lpwstr>
  </property>
  <property fmtid="{D5CDD505-2E9C-101B-9397-08002B2CF9AE}" pid="8" name="display_urn:schemas-microsoft-com:office:office#Editor">
    <vt:lpwstr>Summers, Karen (STFC,RAL,OBR)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