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EF8-E7E6-4130-8250-8A78BAA7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B5F-C663-4D6B-B9CF-0BC34D40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2F1-9555-4EC3-B8FD-53FA0821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9EB-9605-4B0A-8461-A0286AFD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D58F-80DE-420B-BAF7-3B0413F2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170F-53A8-4735-AB33-6D0487D2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BCC8-0A9F-4EF2-9DB7-2508190F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540A-EAC7-4EFE-BA5E-4BDAFF50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50B3-A962-4A99-AC56-C64C4156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A063-60BF-4D43-946A-A37D972F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0848-EA74-4BE0-AA6F-04B4D10F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A6E-CF68-4B24-BD2C-F6FD351E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180B-9DFB-4BA1-85D8-3AFAD57A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D397-6516-41EC-A1E3-7A4A874D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0456-9F3F-4A94-A30A-DEAEC329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A208-BD2B-4879-AFF9-B9CB8A00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5B74-51B2-4AEB-ABF9-528782D2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480-E016-4CE9-93FD-AC4A22B4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3A1-CB46-4C96-973B-39C76A46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C30-BCFC-48E5-B49D-1DCFFE19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72B-3F34-4CDB-A064-1B4F02FB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D8F-C6F4-43C5-86D3-94CF4A24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D18F-A47E-48AD-A16C-8550C999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18E-1810-4D85-B98E-08B38494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"/>
          <p:cNvPicPr/>
          <p:nvPr/>
        </p:nvPicPr>
        <p:blipFill>
          <a:blip r:embed="rId2"/>
          <a:srcRect l="0" t="46490" r="51478" b="36161"/>
          <a:stretch/>
        </p:blipFill>
        <p:spPr>
          <a:xfrm>
            <a:off x="-36360" y="-96840"/>
            <a:ext cx="9242280" cy="1855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BC72-FD6E-42B4-9EBB-25A030285E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ACC0-964F-453E-8C14-C6730320F0C5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706480"/>
            <a:ext cx="91440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Calibri"/>
              </a:rPr>
              <a:t>SmartPhantom</a:t>
            </a:r>
            <a:br>
              <a:rPr sz="4400"/>
            </a:b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189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am Cooper</a:t>
            </a:r>
            <a:br>
              <a:rPr sz="2400"/>
            </a:b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liam.cooper@stfc.ac.u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1908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c8c93"/>
                </a:solidFill>
                <a:latin typeface="Arial"/>
              </a:rPr>
              <a:t>Mounting Plate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1258920" y="2924280"/>
            <a:ext cx="2863800" cy="23446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"/>
          <p:cNvPicPr/>
          <p:nvPr/>
        </p:nvPicPr>
        <p:blipFill>
          <a:blip r:embed="rId2"/>
          <a:stretch/>
        </p:blipFill>
        <p:spPr>
          <a:xfrm>
            <a:off x="5076720" y="2938320"/>
            <a:ext cx="288144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c8c93"/>
                </a:solidFill>
                <a:latin typeface="Arial"/>
              </a:rPr>
              <a:t>Manufacture Update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826920" y="285264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Aluminium Part Delivery  due – 1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Lucida Grande"/>
                <a:ea typeface="ヒラギノ角ゴ Pro W3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 Augus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On track. End cap drawings reissued to include rotating mechanism fixtur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Fixture/ Fittings Delivery due – 2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Lucida Grande"/>
                <a:ea typeface="ヒラギノ角ゴ Pro W3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 Ju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Complete.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Lobe Manufacture due – 29</a:t>
            </a:r>
            <a:r>
              <a:rPr b="0" lang="en-GB" sz="2400" spc="-1" strike="noStrike" baseline="30000">
                <a:solidFill>
                  <a:srgbClr val="000000"/>
                </a:solidFill>
                <a:latin typeface="Lucida Grande"/>
                <a:ea typeface="ヒラギノ角ゴ Pro W3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 Ju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Complete and inspected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682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c8c93"/>
                </a:solidFill>
                <a:latin typeface="Arial"/>
              </a:rPr>
              <a:t>Manufacture Update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44" name="TextBox 2"/>
          <p:cNvSpPr/>
          <p:nvPr/>
        </p:nvSpPr>
        <p:spPr>
          <a:xfrm>
            <a:off x="537480" y="2411280"/>
            <a:ext cx="77918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Finalise design of rotating mechanism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Drawings completed/ released for manufactur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Bearings/ fixtures delivered to R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Manufacture rotating mechani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Drawings sent to Imperi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Manufacture carbon fibre parts at IC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Drawing completed/ released for manufactur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Drawings sent to Imperi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Potting mould design and manufactur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Lucida Grande"/>
                <a:ea typeface="ヒラギノ角ゴ Pro W3"/>
              </a:rPr>
              <a:t>Still requir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6:55Z</dcterms:created>
  <dc:creator>kw77</dc:creator>
  <dc:description/>
  <dc:language>en-US</dc:language>
  <cp:lastModifiedBy>Cooper, Liam (STFC,RAL,TECH)</cp:lastModifiedBy>
  <dcterms:modified xsi:type="dcterms:W3CDTF">2019-08-06T06:53:11Z</dcterms:modified>
  <cp:revision>248</cp:revision>
  <dc:subject/>
  <dc:title>Template: STFC UKRI Powerpoint (ppt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F731947B08D5984288BC8B16A979FF5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TemplateUrl">
    <vt:lpwstr/>
  </property>
  <property fmtid="{D5CDD505-2E9C-101B-9397-08002B2CF9AE}" pid="7" name="display_urn:schemas-microsoft-com:office:office#Author">
    <vt:lpwstr>Summers, Karen (STFC,RAL,OBR)</vt:lpwstr>
  </property>
  <property fmtid="{D5CDD505-2E9C-101B-9397-08002B2CF9AE}" pid="8" name="display_urn:schemas-microsoft-com:office:office#Editor">
    <vt:lpwstr>Summers, Karen (STFC,RAL,OBR)</vt:lpwstr>
  </property>
  <property fmtid="{D5CDD505-2E9C-101B-9397-08002B2CF9AE}" pid="9" name="xd_ProgID">
    <vt:lpwstr/>
  </property>
  <property fmtid="{D5CDD505-2E9C-101B-9397-08002B2CF9AE}" pid="10" name="xd_Signature">
    <vt:lpwstr/>
  </property>
</Properties>
</file>