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D9C-A22D-485F-B44D-E3D54230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826-8054-44FE-8842-7FB5D96F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1A8-B2FE-4BC5-A30B-1E923BDC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2CA-982A-42DF-9C49-E31F776F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B513-C551-421D-8064-5EAB4E3A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9990-07F1-4466-883E-0600D591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7298-1929-434A-A4AE-E6821C58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B23B-A2C8-4B07-B6E3-F180516F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7D50-8BD2-4E17-B7AE-3553B076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09D7-C440-46A4-813B-E98E2269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F9C5-D7CC-491D-BCD9-BED7B4F6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498-E05E-4395-8171-2CA08BBB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D3FD-37A9-4B3F-9EE3-CEDBDBD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7F0A-8DD6-48A6-9C6D-B857675C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C9BD-6AD3-4D6F-8A11-F5CBCA22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2FFC-43A5-4285-8A5B-068B3F67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5719-6779-4CD5-A3A9-3C9CA42B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E1C-3696-486D-AEB8-E53AF0E7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6F9-CFE1-4774-B398-C18120BF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B05-17E3-44D6-83C6-1A6D4356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5F8-A93B-4EFD-85A3-9D282E06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564-4CE5-4402-BA52-EB45678B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460-D80E-4047-8709-8217BAC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C99-A64B-4CC2-B812-00E64CED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"/>
          <p:cNvPicPr/>
          <p:nvPr/>
        </p:nvPicPr>
        <p:blipFill>
          <a:blip r:embed="rId2"/>
          <a:srcRect l="0" t="46490" r="51478" b="36161"/>
          <a:stretch/>
        </p:blipFill>
        <p:spPr>
          <a:xfrm>
            <a:off x="-36360" y="-96840"/>
            <a:ext cx="9242280" cy="185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F64F-02BE-405F-BBD3-2EB38A064E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EB58-075F-432A-9327-26DC9166F6F8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706480"/>
            <a:ext cx="91440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Calibri"/>
              </a:rPr>
              <a:t>SmartPhantom</a:t>
            </a:r>
            <a:br>
              <a:rPr sz="4400"/>
            </a:b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189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am Cooper</a:t>
            </a:r>
            <a:br>
              <a:rPr sz="2400"/>
            </a:b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liam.cooper@stfc.ac.u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1908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Mounting Plate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1258920" y="2924280"/>
            <a:ext cx="2863800" cy="2344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5076720" y="2938320"/>
            <a:ext cx="288144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Manufacture Update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826920" y="285264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Aluminium Part Delivery  due – 1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  <a:ea typeface="ヒラギノ角ゴ Pro W3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Augus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On track. End cap drawings reissued to include rotating mechanism fixtur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Fixture/ Fittings Delivery due – 2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  <a:ea typeface="ヒラギノ角ゴ Pro W3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Ju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Complete.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Lobe Manufacture due – 29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  <a:ea typeface="ヒラギノ角ゴ Pro W3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Ju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Complete and inspecte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682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Manufacture Update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537480" y="2411280"/>
            <a:ext cx="77918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Finalise design of rotating mechanism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s completed/ released for manufactu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Bearings/ fixtures delivered to R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Manufacture rotating mechani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s sent to Imperi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Manufacture carbon fibre parts at IC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 completed/ released for manufactu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Lucida Grande"/>
                <a:ea typeface="ヒラギノ角ゴ Pro W3"/>
              </a:rPr>
              <a:t>Drawings sent to Imperi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Potting mould design and manufactu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Lucida Grande"/>
                <a:ea typeface="ヒラギノ角ゴ Pro W3"/>
              </a:rPr>
              <a:t>Still requir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6:55Z</dcterms:created>
  <dc:creator>kw77</dc:creator>
  <dc:description/>
  <dc:language>en-US</dc:language>
  <cp:lastModifiedBy>Cooper, Liam (STFC,RAL,TECH)</cp:lastModifiedBy>
  <dcterms:modified xsi:type="dcterms:W3CDTF">2019-08-06T06:53:11Z</dcterms:modified>
  <cp:revision>248</cp:revision>
  <dc:subject/>
  <dc:title>Template: STFC UKRI Powerpoint (ppt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F731947B08D5984288BC8B16A979FF5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Summers, Karen (STFC,RAL,OBR)</vt:lpwstr>
  </property>
  <property fmtid="{D5CDD505-2E9C-101B-9397-08002B2CF9AE}" pid="8" name="display_urn:schemas-microsoft-com:office:office#Editor">
    <vt:lpwstr>Summers, Karen (STFC,RAL,OBR)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